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7.jpeg" ContentType="image/jpeg"/>
  <Override PartName="/ppt/media/image14.png" ContentType="image/png"/>
  <Override PartName="/ppt/media/type.wav" ContentType="audio/x-wav"/>
  <Override PartName="/ppt/media/image15.jpeg" ContentType="image/jpeg"/>
  <Override PartName="/ppt/media/chimes.wav" ContentType="audio/x-wav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46B-A804-4D42-8988-FE3D3034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2B1-8B83-4494-BEEE-3FE50819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1075D-0F2C-4C2A-817F-95D8E794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89A72-8DA1-4D2E-A018-79071670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15BD8-008A-404E-9DCB-3DC1C2DC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E3243-8489-448A-96A2-9462510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041F0-3767-447C-B58A-EBF4607D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A768B-22B9-4F92-AFB7-D24BE3E6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69A91-421A-4B00-91DB-A87B344E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88E54-3744-4BE6-9FE0-96EF3D6A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A175E-BC1C-45AF-AA40-E6944E49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81394-D539-4FDD-8B35-DF278A49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6CE-113F-49BB-BDEB-ED823DB0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4669E-81A4-4811-84EE-53D8CC94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950F1-BAA1-42C1-BE09-03DFBB0D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E3AA7-F963-43D5-81B6-683817E1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CDAFA-D6C2-4FF0-878D-98D4234B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30301-CAD5-45A5-8B96-F3C3C4ED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0D69B-C06A-43BF-BE88-F0C5309D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6AF35-D729-4758-975D-831DD0E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BC09F-1C6E-48F6-83A3-594AC03E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B1B77-43BD-4C11-92DE-27025885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CB14D-618D-4688-A011-4BED4A6F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134-2E1E-414B-909D-646BD97F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3C627-4A83-4C64-9BCD-362DBE0C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12616-EC99-4CCA-9C3F-E46DF6F1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4438C-2E2A-450B-80D7-04032ED0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0155D-063F-4FF2-AB38-8F3FFA17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91DE6-C17D-4786-B9AA-06134C17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659D6-15F2-4A0A-AD9F-CE051D15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5F004-D0A8-4139-8A50-9FC51517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A9018-E9FB-42AC-86FB-4A6DADD5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8BFE0-ADAF-4B12-ACF8-C1B3E42E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4B367-21A4-480C-B473-88A79F68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F367-68E9-4D0C-A25A-A02208BF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A6C8D-4B44-41ED-853D-FA0E12F1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4E148-9535-432D-98CD-3F6FD92E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EF816-4789-4F71-9FC4-6297B882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ABEFA-99B7-4D3F-96DB-CA679AB1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4A5E8-D0DF-46A4-AD3C-B23CA0E3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9B4D1-84DB-4814-8B0F-72D9478F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47641-CEEB-4D26-B1B3-FE4EF630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8D6B2-0383-4285-8258-F799A3F7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2E06D-BC49-4445-8DBB-F6071B67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E673E-F3A2-42D3-BCC5-644F286F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48A0-D4F6-4239-9FF8-588194E2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9E5E9-64B8-4A01-9D48-08E15881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6981B-7C4C-4792-9ED1-A0C934FE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AF18A-32A0-45F9-9E1F-A6B9FFB0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F0AC2-584B-40B6-80DA-6CEB99B8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7B16E-1840-4E80-B9E2-0E06F8B2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B14D-4414-4600-A56E-CC7A5653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AC9F-D6B0-48CA-B1EC-6F72F07A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DF85-9A92-4CCE-910D-149E16C3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53E7-657C-4829-BCEF-BCBB9D84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48A6-2A89-45EB-8B6F-845EA40C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83A-1EAD-435D-B119-B86BA61C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883B-7A66-4C37-BBE1-2E78A063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8B11-48E1-4F9C-AA02-8CF9465E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6AE2-DD98-4353-8DD6-7D78A5F4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14D1-2B54-41C6-9A46-5A772FF9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30B5-526F-41DF-9423-AF8CDC48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1B2B6-4073-4FFF-9940-C3572B18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7806-AA30-45E6-AE6F-340A1FA5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FF7F-7EF6-4343-825A-B55B0285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AD74-AFE7-4855-8B3D-68E9111E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CB68-FD96-4FBE-8A53-D75FD66A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E3F-8D00-4162-A22D-39A43232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52EF-3360-4226-88C5-412557BB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9546-35A7-4C63-9E33-5B27331B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FFA2-5C88-46F4-A7E3-D4BD083A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8863-DD0D-4BA6-AEBF-E74917A5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61FB-AB87-4DEC-8D1E-17C498F2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2BDC-133F-484A-A8D7-EAC87BAC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C7D8-1C46-424F-8AF0-9FB6B808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8DDA0-8CE0-4B37-B6C9-AE15BD94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EBB0-701D-4656-A0C2-D8D82201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9F746-D6F6-4428-8389-3304AAD8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F18-5929-4D5A-80F6-E261DBA6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5D5D1-D6F6-4184-967B-F9C01E1F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7489-8857-45E2-985B-B8DE4BA4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62D36-8128-4E29-A1BA-E83492B7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19904-90EA-4610-894B-C56E50BA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6D2D-C402-4F1C-893B-776C5D40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EB31B-439B-4412-92EC-3B8D7AFA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5982-995A-48B1-80DF-A27C926E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9B56E-1769-45F8-9A0E-2CAE3524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091E-A26C-46B4-BF89-D6B24E36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E0C25-A433-44F1-BC51-767A00C7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C80-48FC-4504-8D68-A5618D0D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C4ECF-2D19-44A9-A059-2AA02E98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7FFA0-FA62-49A5-B1C2-5B63D80C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19B6D-5BCF-4A28-8F62-7829E2EC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E22E9-9356-4647-8AB4-965BA8D3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758DD-DF61-4A7E-9631-1EBFAB48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77B75-1A0F-48DC-BC71-59FF8EC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754F-E881-4149-B5A4-2C98B8BB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63C13-C48E-49A1-94D8-FE81EB57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C29A4-A422-40AC-BF2C-56D52AA5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8BC62-00E9-4FF3-9933-173082F2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0AF-0BD7-433C-8E18-EE39AEFD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428AA-27FE-4057-BB40-181A9709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92E62-22A7-4694-8072-A3E35366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A889C-D07F-49A5-BB84-28018D17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A51F2-95BB-4C9D-B505-50E30BC5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599EF-E59C-4687-9C14-BCDDFC8D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503EA-64DE-49AE-81CB-E3C8C4DA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4B327-A559-4E53-8FFE-ACEE77F8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250F1-0256-4FC6-A061-5D680ABC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272C2-33B9-4A52-B3C1-39F52F31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968CF-91A8-4FF8-8196-13E47E36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BC6-FBD5-4FF1-A4FF-6BC8740F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98793-1BA7-4995-B7DB-0A555E84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C9B3B-05CB-4CE5-A1B0-6566AFB5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A205D-29DC-44C1-A9DF-4F8674E7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FE7B6-F90F-4FEC-A62C-13975270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E11DE-7B09-4F06-A9DD-24DCCC5D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98D17-9E1B-41D6-8E06-42873B51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4FB1D-24E6-4DD3-A70A-D9B1CB46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7223C-A319-45BE-860E-76C42EA7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02821-FF2D-4A90-A826-EF8E8096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D3449-67F0-44E1-9CCA-94B3A97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D5A-CB56-4D86-8230-C0370BC1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7EED8-3C5C-4B4F-B823-940A5E53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84409-61A5-4492-9B4E-D13E33C9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C0C87-7BC1-46A4-89B8-D7FBF0EE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C4EA9-EB59-421E-BAA4-0BD12EEC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C079F-26BC-4145-BE0B-2F7539FD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744CC-C619-4890-A540-28BE3254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68C8C-666F-4D08-B665-58AC9445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D1CD0-BE43-4428-9A97-C4B6DEC6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E0A83-3CF4-4390-9E09-34CC027E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7383B-B1EA-4F83-85B0-01D1C03B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B05-46E0-4CFF-B76D-D76D7A0D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B08FC-EA0A-4E06-9E54-520CF85C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9AAF9-2717-44C8-86ED-17E4866A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0F71A-A0EF-4D67-BFB3-90155B8D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DDE90-2AE9-4FB1-A9FF-A71CF5D2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DA1D0-7A6E-4206-85CC-8D2F411A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97E7E-F617-4606-93F2-E5A4BD29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D93F9-3B3A-4C46-83F3-ABA5014D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1A197-483F-454E-AD0F-8EDCC0B3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A2D2F-B0C7-4819-9E00-C2C10450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23F61-8040-47F5-9D6E-2A048528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E88D-1531-4F32-AB41-741FA57E669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5700-885A-45E4-A523-7240E8DBF16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CD66-3722-45B9-9BCB-485E96C926F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8914-EC0B-4372-9F3A-ABE942BC848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0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1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2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3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4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F1C5-3F5E-445A-9839-01D4D852080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FC0A-5429-4DBD-B0E5-CD67DE40C23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0F22-59BF-4EC9-BEE1-F0AB2F621AA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99A8-D3F9-4F26-AB39-527188E1AEA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25D7-C4E5-4277-BFB6-36E0AFD24B2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21F0-25C4-4272-9531-DE8B55C967E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898D-A09E-48E1-BB59-233393AEC46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B144-8499-4B87-A8ED-DB9C2EC4679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2" descr="天都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6400800" y="622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-230760" y="588960"/>
            <a:ext cx="26182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爬 天 都 峰</a:t>
            </a:r>
            <a:endParaRPr b="0" lang="en-US" sz="8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4"/>
          <p:cNvSpPr/>
          <p:nvPr/>
        </p:nvSpPr>
        <p:spPr>
          <a:xfrm>
            <a:off x="468360" y="189000"/>
            <a:ext cx="8280360" cy="60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ū            fēnɡ dǐnɡ         dǒu            lià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天都峰          峰顶          笔陡          铁链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ì                  chàn        yǎnɡ                   cān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似乎         发颤         仰起         白发苍苍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n                fèn             pān pá           jì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咱们           奋力          攀爬          鲫鱼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àn                hē              yǒnɡ             jū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辫子        笑呵呵          勇气          居然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971640" y="1197000"/>
            <a:ext cx="770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峰顶               似乎              忽然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白发苍苍       咱们              奋力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终于               辫子              勇气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决心               居然              力量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755640" y="476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都（天都峰）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332000" y="1916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都是）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4716360" y="4762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发（发颤）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5292720" y="1773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头发）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826920" y="3357720"/>
            <a:ext cx="34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9d8ec"/>
                </a:solidFill>
                <a:latin typeface="Arial"/>
                <a:ea typeface="宋体"/>
              </a:rPr>
              <a:t>相（照相）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1332000" y="4724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9d8ec"/>
                </a:solidFill>
                <a:latin typeface="Arial"/>
                <a:ea typeface="宋体"/>
              </a:rPr>
              <a:t>（互相）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4788000" y="328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9d8ec"/>
                </a:solidFill>
                <a:latin typeface="Arial"/>
                <a:ea typeface="宋体"/>
              </a:rPr>
              <a:t>似（似乎）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5291280" y="4653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9d8ec"/>
                </a:solidFill>
                <a:latin typeface="Arial"/>
                <a:ea typeface="宋体"/>
              </a:rPr>
              <a:t>（似的）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4"/>
          <p:cNvSpPr/>
          <p:nvPr/>
        </p:nvSpPr>
        <p:spPr>
          <a:xfrm>
            <a:off x="395280" y="549360"/>
            <a:ext cx="8353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啊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峰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么高，在云彩上面哩！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得上去吗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再看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笔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石级，石级边上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铁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似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从天上挂下来的，真叫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发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！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奋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向峰顶爬去，一会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攀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铁链上，一会儿手脚并用向上爬，像小猴子一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4"/>
          <p:cNvSpPr/>
          <p:nvPr/>
        </p:nvSpPr>
        <p:spPr>
          <a:xfrm>
            <a:off x="684360" y="620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讲了一件什么事？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395280" y="1628640"/>
            <a:ext cx="87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假日里，我和爸爸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在天都峰脚下遇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互相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克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终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7" name="WordArt 6"/>
          <p:cNvSpPr txBox="1"/>
          <p:nvPr/>
        </p:nvSpPr>
        <p:spPr>
          <a:xfrm>
            <a:off x="5292720" y="1628640"/>
            <a:ext cx="2952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uFillTx/>
                <a:latin typeface="宋体"/>
              </a:rPr>
              <a:t>去黄山爬天都峰</a:t>
            </a:r>
            <a:endParaRPr b="0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uFillTx/>
              <a:latin typeface="宋体"/>
              <a:ea typeface="宋体"/>
            </a:endParaRPr>
          </a:p>
        </p:txBody>
      </p:sp>
      <p:sp>
        <p:nvSpPr>
          <p:cNvPr id="538" name="WordArt 7"/>
          <p:cNvSpPr txBox="1"/>
          <p:nvPr/>
        </p:nvSpPr>
        <p:spPr>
          <a:xfrm>
            <a:off x="4356000" y="2467080"/>
            <a:ext cx="3961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uFillTx/>
                <a:latin typeface="宋体"/>
              </a:rPr>
              <a:t>一位白发苍苍的老爷爷</a:t>
            </a:r>
            <a:endParaRPr b="0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uFillTx/>
              <a:latin typeface="宋体"/>
              <a:ea typeface="宋体"/>
            </a:endParaRPr>
          </a:p>
        </p:txBody>
      </p:sp>
      <p:sp>
        <p:nvSpPr>
          <p:cNvPr id="539" name="WordArt 8"/>
          <p:cNvSpPr txBox="1"/>
          <p:nvPr/>
        </p:nvSpPr>
        <p:spPr>
          <a:xfrm>
            <a:off x="2484360" y="3284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uFillTx/>
                <a:latin typeface="宋体"/>
              </a:rPr>
              <a:t>鼓励</a:t>
            </a:r>
            <a:endParaRPr b="0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uFillTx/>
              <a:latin typeface="宋体"/>
              <a:ea typeface="宋体"/>
            </a:endParaRPr>
          </a:p>
        </p:txBody>
      </p:sp>
      <p:sp>
        <p:nvSpPr>
          <p:cNvPr id="540" name="WordArt 9"/>
          <p:cNvSpPr txBox="1"/>
          <p:nvPr/>
        </p:nvSpPr>
        <p:spPr>
          <a:xfrm>
            <a:off x="5003640" y="3259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uFillTx/>
                <a:latin typeface="宋体"/>
              </a:rPr>
              <a:t>山高路陡的困难</a:t>
            </a:r>
            <a:endParaRPr b="0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uFillTx/>
              <a:latin typeface="宋体"/>
              <a:ea typeface="宋体"/>
            </a:endParaRPr>
          </a:p>
        </p:txBody>
      </p:sp>
      <p:sp>
        <p:nvSpPr>
          <p:cNvPr id="541" name="WordArt 10"/>
          <p:cNvSpPr txBox="1"/>
          <p:nvPr/>
        </p:nvSpPr>
        <p:spPr>
          <a:xfrm>
            <a:off x="1692360" y="412416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uFillTx/>
                <a:latin typeface="宋体"/>
              </a:rPr>
              <a:t>一起爬上了天都峰</a:t>
            </a:r>
            <a:endParaRPr b="0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uFillTx/>
              <a:latin typeface="宋体"/>
              <a:ea typeface="宋体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971640" y="9874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按怎样的顺序的写？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116000" y="2349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事情发展的顺序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1232654_98977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9640" y="476280"/>
            <a:ext cx="8209080" cy="61196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682560" y="83664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啊，峰顶这么高，在云彩上面哩！我爬得上去吗？再看看笔陡的石级，石级边上的铁链，似乎是从天上挂下来的，真叫人发颤！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692360" y="458136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高、陡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067280" y="4941720"/>
            <a:ext cx="1512720" cy="360"/>
            <a:chOff x="4067280" y="4941720"/>
            <a:chExt cx="1512720" cy="360"/>
          </a:xfrm>
        </p:grpSpPr>
        <p:sp>
          <p:nvSpPr>
            <p:cNvPr id="548" name="Line 5"/>
            <p:cNvSpPr/>
            <p:nvPr/>
          </p:nvSpPr>
          <p:spPr>
            <a:xfrm>
              <a:off x="4067280" y="494172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4067280" y="4941720"/>
              <a:ext cx="151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550" name="Text Box 6"/>
          <p:cNvSpPr/>
          <p:nvPr/>
        </p:nvSpPr>
        <p:spPr>
          <a:xfrm>
            <a:off x="6156360" y="458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害怕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0000184331"/>
          <p:cNvPicPr/>
          <p:nvPr/>
        </p:nvPicPr>
        <p:blipFill>
          <a:blip r:embed="rId1"/>
          <a:stretch/>
        </p:blipFill>
        <p:spPr>
          <a:xfrm>
            <a:off x="395280" y="644400"/>
            <a:ext cx="849780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1476360" y="620640"/>
            <a:ext cx="66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朋友，你也来爬天都峰？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老爷爷，你也来爬天都峰？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826920" y="2852640"/>
            <a:ext cx="756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小朋友来爬天都峰，老爷爷心里想：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老爷爷来爬天都峰，“我”心里想：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5076720" y="2127600"/>
            <a:ext cx="3816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奋力向峰顶去，一会儿攀着铁链上，一会儿手脚并用向上爬，像小猴子一个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6659640" y="2090880"/>
            <a:ext cx="1008000" cy="1857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5070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755640" y="18860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每当太阳升起，有座山峰上的几块巨石，就变成了一只金光闪闪的雄鸡。它伸着脖子，对着天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峰不住地啼叫。不用说，这就是著名的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金鸡叫天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了。 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611280" y="62064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黄山奇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4"/>
          <p:cNvSpPr/>
          <p:nvPr/>
        </p:nvSpPr>
        <p:spPr>
          <a:xfrm>
            <a:off x="826920" y="90792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爬呀爬，我和老爷爷，还有爸爸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终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爬上了天都峰顶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042920" y="2708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从“终于”这个词，你体会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971640" y="386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爬山的艰难和爬上峰顶后的喜悦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4"/>
          <p:cNvSpPr/>
          <p:nvPr/>
        </p:nvSpPr>
        <p:spPr>
          <a:xfrm>
            <a:off x="324000" y="95076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谢谢你啦，小妹妹。要不是你的勇气鼓舞我，还下不了决心哩！现在居然爬上来了！ 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不，老爷爷，我是看您也要爬天都峰，才有勇气向上爬的！我应该谢谢您！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3"/>
          <p:cNvSpPr/>
          <p:nvPr/>
        </p:nvSpPr>
        <p:spPr>
          <a:xfrm>
            <a:off x="557280" y="907920"/>
            <a:ext cx="75438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我停下来时，老爷爷对我说：“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”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老爷爷停下来时，我对爷爷说：“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”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012000" y="1341360"/>
            <a:ext cx="2361960" cy="360"/>
            <a:chOff x="6012000" y="1341360"/>
            <a:chExt cx="2361960" cy="360"/>
          </a:xfrm>
        </p:grpSpPr>
        <p:sp>
          <p:nvSpPr>
            <p:cNvPr id="563" name="Line 4"/>
            <p:cNvSpPr/>
            <p:nvPr/>
          </p:nvSpPr>
          <p:spPr>
            <a:xfrm>
              <a:off x="6012000" y="13413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64" name=""/>
            <p:cNvSpPr txBox="1"/>
            <p:nvPr/>
          </p:nvSpPr>
          <p:spPr>
            <a:xfrm>
              <a:off x="6012000" y="1341360"/>
              <a:ext cx="2361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826920" y="2349360"/>
            <a:ext cx="6400800" cy="360"/>
            <a:chOff x="826920" y="2349360"/>
            <a:chExt cx="6400800" cy="360"/>
          </a:xfrm>
        </p:grpSpPr>
        <p:sp>
          <p:nvSpPr>
            <p:cNvPr id="566" name="Line 5"/>
            <p:cNvSpPr/>
            <p:nvPr/>
          </p:nvSpPr>
          <p:spPr>
            <a:xfrm>
              <a:off x="826920" y="234936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826920" y="234936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443640" y="3716280"/>
            <a:ext cx="2016000" cy="360"/>
            <a:chOff x="6443640" y="3716280"/>
            <a:chExt cx="2016000" cy="360"/>
          </a:xfrm>
        </p:grpSpPr>
        <p:sp>
          <p:nvSpPr>
            <p:cNvPr id="569" name="Line 9"/>
            <p:cNvSpPr/>
            <p:nvPr/>
          </p:nvSpPr>
          <p:spPr>
            <a:xfrm>
              <a:off x="6443640" y="3716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6443640" y="371628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826920" y="4724280"/>
            <a:ext cx="6324840" cy="360"/>
            <a:chOff x="826920" y="4724280"/>
            <a:chExt cx="6324840" cy="360"/>
          </a:xfrm>
        </p:grpSpPr>
        <p:sp>
          <p:nvSpPr>
            <p:cNvPr id="572" name="Line 10"/>
            <p:cNvSpPr/>
            <p:nvPr/>
          </p:nvSpPr>
          <p:spPr>
            <a:xfrm>
              <a:off x="826920" y="4724280"/>
              <a:ext cx="6324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826920" y="4724280"/>
              <a:ext cx="632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715000" y="4419720"/>
            <a:ext cx="360" cy="360"/>
            <a:chOff x="5715000" y="4419720"/>
            <a:chExt cx="360" cy="360"/>
          </a:xfrm>
        </p:grpSpPr>
        <p:sp>
          <p:nvSpPr>
            <p:cNvPr id="575" name="Line 13"/>
            <p:cNvSpPr/>
            <p:nvPr/>
          </p:nvSpPr>
          <p:spPr>
            <a:xfrm>
              <a:off x="5715000" y="4419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5715000" y="4419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324000" y="33336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谢谢你啦，小妹妹。要不是你的</a:t>
            </a:r>
            <a:r>
              <a:rPr b="1" lang="zh-CN" sz="3600" spc="-1" strike="noStrike">
                <a:solidFill>
                  <a:srgbClr val="d9d8ec"/>
                </a:solidFill>
                <a:latin typeface="Times New Roman"/>
                <a:ea typeface="宋体"/>
              </a:rPr>
              <a:t>勇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鼓舞我，还下不了决心哩！现在居然爬上来了！        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不，老爷爷，我是看您也要爬天都峰，才有</a:t>
            </a:r>
            <a:r>
              <a:rPr b="1" lang="zh-CN" sz="3600" spc="-1" strike="noStrike">
                <a:solidFill>
                  <a:srgbClr val="d9d8ec"/>
                </a:solidFill>
                <a:latin typeface="Times New Roman"/>
                <a:ea typeface="宋体"/>
              </a:rPr>
              <a:t>勇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向上爬的！我应该谢谢您！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8" name="AutoShape 3"/>
          <p:cNvSpPr/>
          <p:nvPr/>
        </p:nvSpPr>
        <p:spPr>
          <a:xfrm>
            <a:off x="3851280" y="3500280"/>
            <a:ext cx="1224000" cy="93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2124000" y="4724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从别人身上汲取力量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鲫鱼背1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3"/>
          <p:cNvSpPr/>
          <p:nvPr/>
        </p:nvSpPr>
        <p:spPr>
          <a:xfrm>
            <a:off x="838080" y="2602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你们这一老一小真有意思，都会从别人身上汲取力量！”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4211640" y="1484280"/>
            <a:ext cx="720360" cy="77760"/>
            <a:chOff x="4211640" y="1484280"/>
            <a:chExt cx="720360" cy="77760"/>
          </a:xfrm>
        </p:grpSpPr>
        <p:sp>
          <p:nvSpPr>
            <p:cNvPr id="583" name="AutoShape 4"/>
            <p:cNvSpPr/>
            <p:nvPr/>
          </p:nvSpPr>
          <p:spPr>
            <a:xfrm>
              <a:off x="4211640" y="1484280"/>
              <a:ext cx="6552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84" name="AutoShape 5"/>
            <p:cNvSpPr/>
            <p:nvPr/>
          </p:nvSpPr>
          <p:spPr>
            <a:xfrm>
              <a:off x="4408200" y="1484280"/>
              <a:ext cx="6552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>
              <a:off x="4637520" y="1484280"/>
              <a:ext cx="6516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4866840" y="1484280"/>
              <a:ext cx="6516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587" name="Text Box 9"/>
          <p:cNvSpPr/>
          <p:nvPr/>
        </p:nvSpPr>
        <p:spPr>
          <a:xfrm>
            <a:off x="1619280" y="1989000"/>
            <a:ext cx="48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从爸爸的话中你体会到什么？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468360" y="2637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与人交往时，要善于互相学习，互相鼓励，共同进步。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3"/>
          <p:cNvSpPr/>
          <p:nvPr/>
        </p:nvSpPr>
        <p:spPr>
          <a:xfrm>
            <a:off x="380880" y="380880"/>
            <a:ext cx="83822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我和爷爷沿着山路往回走，一路上遇到了许多游人。有的望着险峻的天都峰退缩了，有的人在曲折的山路上犹豫不前，有的人看到曲折的道路不知该如何前进</a:t>
            </a:r>
            <a:r>
              <a:rPr b="1" lang="en-US" sz="3200" spc="-1" strike="noStrike">
                <a:solidFill>
                  <a:srgbClr val="d9d8ec"/>
                </a:solidFill>
                <a:latin typeface="Times New Roman"/>
              </a:rPr>
              <a:t>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想一想，我和老爷爷会怎样向游人介绍爬天都峰的感受？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539640" y="4076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在困难面前，要有战胜困难的勇气和信心。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538200" y="40464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了这篇课文</a:t>
            </a: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懂得了什么道理？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24000" y="29242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在困难面前，要有战胜困难的勇气和信心；与人交往时，要善于互相学习，互相鼓励，共同进步。 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200311181715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3"/>
          <p:cNvSpPr/>
          <p:nvPr/>
        </p:nvSpPr>
        <p:spPr>
          <a:xfrm>
            <a:off x="6400800" y="622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13" name="我不想说我是一只鸡.wma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539640" y="476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天都峰：黄山的主峰之一，海拔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82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米。属于金字塔形角峰，奇险陡峻，是黄山诸峰之冠。沿磴道有童子拜观音、天上玉屏、仙人飘海、天桥等景观，以鲫鱼背最为险峻。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65589" fill="hold"/>
                                        <p:tgtEl>
                                          <p:spTgt spid="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bjqw20040213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bjqw20040213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2-1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76320">
            <a:solidFill>
              <a:srgbClr val="9933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021"/>
          <p:cNvPicPr/>
          <p:nvPr/>
        </p:nvPicPr>
        <p:blipFill>
          <a:blip r:embed="rId1"/>
          <a:stretch/>
        </p:blipFill>
        <p:spPr>
          <a:xfrm>
            <a:off x="380880" y="304920"/>
            <a:ext cx="5761080" cy="63244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521" name="Text Box 3"/>
          <p:cNvSpPr/>
          <p:nvPr/>
        </p:nvSpPr>
        <p:spPr>
          <a:xfrm>
            <a:off x="5475960" y="1752480"/>
            <a:ext cx="286164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鲫鱼背</a:t>
            </a:r>
            <a:endParaRPr b="0" lang="en-US" sz="8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610920" y="2438280"/>
            <a:ext cx="851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鲫</a:t>
            </a:r>
            <a:endParaRPr b="0" lang="en-US" sz="8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鱼</a:t>
            </a:r>
            <a:endParaRPr b="0" lang="en-US" sz="8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背</a:t>
            </a:r>
            <a:endParaRPr b="0" lang="en-US" sz="8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1:53:00Z</dcterms:created>
  <dc:creator/>
  <dc:description/>
  <dc:language>en-US</dc:language>
  <cp:lastModifiedBy>万润仪器贸易公司</cp:lastModifiedBy>
  <dcterms:modified xsi:type="dcterms:W3CDTF">2020-08-24T03:37:04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